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F2B0-0BC4-4C1F-BF4C-002792AD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787-C535-4B51-ABC5-B2977FDA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13E6-1F6A-4B41-A16A-25385DF9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EB00-819C-452D-AB16-68D36569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5FBE-8A17-4C74-A9C8-0AB361EA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0781-92C9-41B3-87E3-56C8539D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844E-E2DE-4AD8-8C65-B1FDBEC3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A856-DFAD-4B4A-8E86-B0961EF4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A744-BA06-4AEA-BE68-B87599D0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F5AC-E600-4253-991E-2CF82902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F143-581B-4836-B049-B544B36A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8B66-C050-4193-92CE-B68D8F91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0AD1-8B22-4AD3-B81F-5BB2E634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408D-9959-4201-982A-B42A30C1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341B-549F-4B18-9CFA-0FB0CB90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9FA0-D3B3-405A-8D5C-E94536AD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7F62-CE3E-48B6-A83D-8C05B505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D759-551C-4EC5-8B45-9ACD0ED0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2FFE-6BFD-4B0E-A1D6-8B174802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945F-0B97-4C71-9315-3BE60394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2F8E-C3C9-4D88-BF92-C53ED05D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918C-A783-4CF7-9870-6E284B52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3F1D-8FAD-4848-B4F9-9C89F418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B11-7CD1-4049-8422-586410B1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A7BD-D959-4739-B932-1745C51D9896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6EC1-8FC0-41A2-B826-E54BA2CE7703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ecff"/>
                </a:solidFill>
                <a:latin typeface="Arial"/>
              </a:rPr>
              <a:t>ALTE ROMANE  REALISTE INTERBELIC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438280" y="41907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11" descr="comp_i"/>
          <p:cNvPicPr/>
          <p:nvPr/>
        </p:nvPicPr>
        <p:blipFill>
          <a:blip r:embed="rId1">
            <a:alphaModFix amt="62000"/>
          </a:blip>
          <a:stretch/>
        </p:blipFill>
        <p:spPr>
          <a:xfrm>
            <a:off x="4876920" y="144792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ffffff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9T11:13:43Z</dcterms:modified>
  <cp:revision>30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